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0C1-894A-4573-A517-D808C6A2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B00-C873-46EE-881E-42198331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DC99-AD0E-49A1-9521-6E8DE2DB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D25-F82C-4863-B9DC-AF6E9C85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518F-01B5-413A-8A65-1F97E96C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9393-23CE-4CF7-A8AE-36276015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DFB6-F2FB-4D28-B7B9-820E1338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779D-7BC4-4CFA-9BD0-DBBA40F7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DE38-7FF5-42C7-BB15-159E8D5A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A8F2-B8D8-448E-8938-43D399F5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1EDE-25F9-4D52-B914-4024CF88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063-F23E-43A7-BF0C-C78C665C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7B89-0F39-4841-A7AD-ACF31F71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3E20-7E1B-4E50-A125-8836A513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B1AE-DDF5-4055-A9FE-D051CF66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8F70-7495-490F-9927-A8697653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665C-4A9A-431F-92E0-127E71B7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838-848B-40F0-B48C-99F6A6B2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931-E900-4E1A-9429-C5E9F004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D47-2BF3-4370-89DB-671E4BC5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0E1-437D-41E7-8854-25BF08AD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EE14-5284-446F-89A6-0B65FE40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FB2-5E0D-4D6B-B10D-89D75DC3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9C3-54AA-4CE9-BE5D-F9D5C383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6415-0ED6-4A1F-BB9B-3F15D7900C7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B35E-EFC3-4D1F-A3D5-18AECBFD6C5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 not turn on your computer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Quiz First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Quiz!!!!  Study for five minut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aptop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nding Your Voice activi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2:57:32Z</dcterms:created>
  <dc:creator>User</dc:creator>
  <dc:description/>
  <dc:language>en-US</dc:language>
  <cp:lastModifiedBy>User</cp:lastModifiedBy>
  <dcterms:modified xsi:type="dcterms:W3CDTF">2006-09-13T17:52:54Z</dcterms:modified>
  <cp:revision>3</cp:revision>
  <dc:subject/>
  <dc:title>Agenda</dc:title>
</cp:coreProperties>
</file>